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134B-0FF7-48DA-8B52-7C10AB30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3FA-A9C9-4437-8D6A-2C54DE0F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C42-CFAC-4E80-938C-4B264CFE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40B-8BD2-4C16-9DFB-B1C14238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B54-650F-46DC-B46F-C6C9622B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386-B00F-4ECB-ABA4-ABBEAF71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800-22CD-44EB-9F28-94AE413E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C52-71E5-47AE-A014-067D907B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CB9-2475-463E-9274-24CFD8C2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530-1C90-44CE-8A37-37DE1B92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612-16B7-4815-A924-F8203AD5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46D-F613-4B60-8F98-A8A6E97D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043E-5692-4AFD-B5AA-40528F05F3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Practice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41200" y="46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2 THE FORMATION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-142920" y="128592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γω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εμψω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τελ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ρχω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λυθῃ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εἰπω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2786040" y="18273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Active Subjunctiv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2786040" y="24289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Active Subjunc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2786040" y="30574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Active Subjunc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2786040" y="36640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Middle/Passive Subjunc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786040" y="43005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Subjuncti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2786040" y="49150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Active Subjunc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Practice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-142920" y="128592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ρξωμ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βαλλη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ιδασκ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κουση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ἰδω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φιλου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786040" y="18273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Middle Subjunctiv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2786040" y="242892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Middle/Passive Subjunc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786040" y="30574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Active Subjunc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2786040" y="36640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Active Subjuncti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2786040" y="43005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Active Subjunctiv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786040" y="49150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Active Indicative 1st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241200" y="46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2 THE FORMATION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244440" y="1258920"/>
            <a:ext cx="41432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λθες ἱνα ἀκουῃ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προφηται ἀπεσταλησαν ἱνα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γωσιν ὑπερ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ς ἀν βλεπῃ με, βλεπει το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ατερ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ρατησαν τον Παυλον ἱνα μη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υγ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ταν πορευησθε, φοβουμ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που πορευοντ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429080" y="1943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you come so that you might h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429080" y="23572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phets were sent in order that they might speak on behalf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429080" y="31845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ever sees me, sees the fa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429080" y="40273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eizes Paul so that he would not fl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4429080" y="48848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ever you go, I am afr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429080" y="52862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are they go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Practice 4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44440" y="1258920"/>
            <a:ext cx="41432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ἀποστολος ἐγραψεν ὑμιν ἱνα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ιστευση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που ἀν ἐλθῃ ὁ Ἰησους, μεγας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ὀχλος συνηχθ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cast out the demons in ord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he might be sa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ever entered the city d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lled to her so she would h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ever I look I see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429080" y="19432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postle wrote to you in order that you might believe (come to belie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4429080" y="2771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ver Jesus went a great crowd gath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4429080" y="361152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Ἰησους ἐξεβαλεν τα δαιμονια ἱνα σωθ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4429080" y="4429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ς ἀν εἰσελθῃ την πολιν ἀπεθα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4429080" y="485784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αλεσα αὐτῃ ἱνα ἀκουσ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4429080" y="525924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ταν βλεπω τα ὀρη βλεπ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7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USE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44440" y="1258920"/>
            <a:ext cx="414324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που ἐλθ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η ἐξελθη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 μη ὑπαγαγωσ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οξαζωμεν τον του κοσμου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υρ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ί ἀκουσωμεν του διδασκαλ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ζητωμεν ἁγιαν ζω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429080" y="1943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should I g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4429080" y="2357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lea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442908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ill never dep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429080" y="31878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 us glorify the lord of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4429080" y="40273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should we listen to the teac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4429080" y="4456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 us seek a holy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7:27:40Z</dcterms:created>
  <dc:creator>Sarah</dc:creator>
  <dc:description/>
  <dc:language>en-US</dc:language>
  <cp:lastModifiedBy>Sarah</cp:lastModifiedBy>
  <dcterms:modified xsi:type="dcterms:W3CDTF">2009-08-09T11:18:25Z</dcterms:modified>
  <cp:revision>17</cp:revision>
  <dc:subject/>
  <dc:title>Slide 1</dc:title>
</cp:coreProperties>
</file>